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63BB-C1E9-4EE3-8D7A-88BBE2575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0672-5EB5-4249-9D94-70073F53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60D62A-7FC5-46F3-AAF4-4923BA9B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811A6C-69B9-4033-BA24-12767A65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67FECE-1C05-4903-909C-AF339762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E9DFC-2B25-43AE-B93A-3ED363C8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BFBDE-B64B-4D48-8D63-3345AA11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6D7FA3-4FD5-4934-90D7-BD281304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338B40-D452-46C9-A0E8-8B6D9CE7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6F6FB8-B9DE-4931-A589-D559F1E25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AD0C0C-14F0-4AF9-98DD-A0E447A3D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58D918-2E43-4AF8-9570-D41E51F28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11BB-B27F-4D4E-B26F-A9CE67916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A933A7-4034-4FF3-A2B0-06DF4F39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F3F07D-8936-4BB5-A5F0-A3AF15A0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B9DE86-C733-40F3-B053-48438816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592FA6-FEC5-4918-A8AD-208AF76C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4BACDD-AE99-47CA-9495-C8A4CC27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28A3BB-5E6C-4518-A0CF-8E17B455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35E360-2F46-4998-A765-3657696B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A7DF52-215D-4A9E-BEC4-F3FCE036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A314E0-5C67-4E4B-AE88-1E2961FA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3A8F7F-A430-4392-8801-FEEDCDD64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4F3F-5502-4F2E-B714-744CA25E6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D96ED8-B3AB-4535-A8B1-51ABE2409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C5578-C10F-4953-909A-517362446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75DCE5-7A53-48BB-A129-11A5EA2F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55891-7570-4A43-8F6B-90D40C63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56CE54-5AA0-4B54-9731-A65891901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4E367F-B299-45A2-A931-985C029B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5E2B23-94A5-4B08-89F2-71281F35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CB6D14-A8D1-4033-AA1F-47860CDB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DC6614-0728-413F-A82D-61842B7C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07E4A-5785-4C8D-9085-627179F9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5BB2B-3899-4680-B7EA-5E15ED301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D6FD68-7798-4E16-A989-75FD795C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2E427E-9B2F-47A9-9730-305E52B10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D0B3C7-E46C-47C8-8D3B-574511836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EA2F51-A68B-425A-AE82-A102B4C6A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1EEEA6-8A0C-4ABF-A4E1-A39C69A6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645C7D-F7B4-4DE5-AD8A-9FB09E74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3E2C00-01B0-40D6-9272-58AF2DCD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19E05B-EE53-4E69-9F9E-4B5EB781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157378-2908-4D40-8AB5-D725BEF2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9F726C-9FF9-41CA-AF65-EAF0909E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00005-906F-4747-B5F3-DA5AF742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6BC0C9-0E7A-4312-9EC0-DCDC5DCC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AF1845-298B-44B0-A6BB-80C5A02B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31A6D7-CCD0-4DA9-8C8B-C6501B91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A599CF-CD75-4C6A-A1D2-50870689E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4FA213-2AFC-4EC1-A3FE-21641252F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F1D283-B288-4C53-842C-7E8019455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9BDEFB-2F1A-46E9-B790-D340A4D0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F7FF3C-0013-48E0-83EF-07F8FC12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1F4CEA-4AEE-437A-8FCE-5F36FB73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71C131-E445-4AB6-87E2-D08C151B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67EC-67EC-4C2B-87B6-E8F3FE1D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2331CD-6269-4162-8BC8-6A996A49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F31498-0EF0-4BAF-B24C-ADC14FA4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9236E7-18D3-40C9-9E26-1AE812E1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C6A46F-1BCD-4329-A063-011F0B18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AA8CD1-35F8-41E4-8BC2-52F0753E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C26C4D-7ADD-4F0C-AD09-7DB261E8C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A0851E-73E6-4002-AFCA-B58F0C76D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01D202-BD24-474F-A9E1-3756A0CAA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010E62-C3A1-4741-8C4A-0919FF7E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714F07-F4F7-4A0C-AC6C-7F6FEDBC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B1C6B-2AE7-49CF-B020-CA3EB510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5E5FB1-E48C-4613-A1A3-E8B5E223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135423-E5C3-4C66-AC04-381CA015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84E693-BBD9-4B22-A117-52E09AC5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A2D97C-6F9D-47A5-812F-40765A34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F8DF03-F028-404E-B8F4-748B90C2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12CD04-319A-4B07-8192-F553CB06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A72C30-BFC7-4BE9-A316-01B47BDE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7C8DF4-F1E8-4E8B-A43D-889653509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C59896-22F1-43C6-8DD7-2988FC3ED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7C34EF-8E48-4A6D-9E7D-954517ED1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EA04-755A-46A0-AF1E-0EE22EF6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72D3D6-AF17-4037-B549-6AFF48AF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56367B-72FE-4BBF-A65E-ABAA9F87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387558-E68A-4FBA-B9FF-1C31E75B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8BA708-72C6-4914-AC23-994D2506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EA1AED-C469-401F-BE6B-2A09B2DB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1BF16D-23DA-4EC6-B0FF-4586E8DD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EEE2B4-A988-45B0-A2DC-0932D058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C15493-D557-4A90-BFD9-C96DF5E1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6D67AD-01F9-4919-A842-492F6F8A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110B38-2315-4EB9-A88D-9AE02C4C8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B4E4-6262-43BA-AD3F-6483FC9E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190D77-3B21-47EC-BA31-39A2E4E10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6DDCBC-6372-4382-8F07-B8A5CDD77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1D1AF1-0662-4627-A5DF-E4DFB383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4ACD31-A4C0-4943-BA78-DC1A505F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726FFF-A873-4BD6-A486-6CD8EC24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CB16F9-BF05-4B7D-B0AF-0D0D7616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AA7A97-9B0B-4F50-BC18-2928D4ED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6FE7B9-D296-42C4-B768-FC338D87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B54522-1F8C-464A-9DE6-8D949F72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3EDBB7-15CC-4418-B8EE-333CC7DA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89F2-D089-44C1-AABE-C841EE71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A0270D-EB48-4B45-BA2B-9CACF139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AF0461-903B-450B-AEE2-16E592EFA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EF7998-D64A-4619-827A-BF65D22A5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2F81BD-1F31-4E71-BCB8-3A3D14B9F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3815AA-EC2B-414F-A37E-64FD3EE7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221717-6970-45E6-95DA-181E954C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C07386-B666-45C6-9884-B17467F3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322777-A50F-456F-AF52-52F7E53A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0E975C-7930-4BAE-8350-9C314F62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FE8C84-6713-4B0E-9E6E-8649CB80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C9AE-61D1-4B6C-93FD-EFF6E650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A85E-6011-4927-ADFA-83E2E16C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72F758-4C5B-40FA-A455-598382AC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D83ABD-FD6C-42A0-943B-0683D862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45145E-A68A-4380-B469-71B7ADB8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F280F9-FD67-4A22-8CBD-A4DDA5E79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5BFC9E-21EC-4BA9-A439-16FF648C2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98A040-571A-4226-9008-8A1538B7F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D45DCD-EDFC-4C18-B56A-8A24B843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DCE85D-6687-4F71-858E-83028238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64D0DC-2322-4372-9247-794286A13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63126E-C5E3-4B4D-9797-03DEF744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254C3-5944-4967-8C94-0356E7C6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2F5861-9D72-45FD-B969-59FEC35D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FA8C9E-224E-44B9-B8C6-5BB2F0CB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5E435D-9852-4781-84B9-A9222F9B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8DF9DA-F5F3-4726-B9CD-8BEA0D59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7BC948-B8F1-4F34-BE36-524B1E7A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C3C275-573D-4125-8F94-72D116A43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F0A1FC-256F-4F4A-833E-806DB8B9E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6427E9-7E4B-4251-AEEC-A13B4C2D6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C14B4B-53C0-4645-B744-CC69074B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EEF651-75F4-4070-AF94-BE8F22DB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8672-1438-4B2B-AE50-D973AAF0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B996E0-BC9C-445D-A863-F12CD029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F6274C-D446-4342-A432-2921B75F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447CBC-8A15-48DD-850C-5D81D924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F0C528-4CBC-47C7-8F8C-8CD2DEC4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5340C9-7C87-4D03-BC15-DE7C2DC4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5AD8CC-2D27-4BE0-9CC8-A19743D4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4B1C16-4738-48AB-9FDA-6A9052D5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DCE732-7AB0-457F-BDD3-21093774F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AAAD3E-4A77-45E2-A075-FC4D78940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6721CC-18E0-41F1-8ABF-F5047BB99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3C67-704C-46B4-8653-BD3E06265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73CF6C-112A-4732-BCA1-2C0A4D1B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99EFB8-5CD2-4936-A3BB-3D3A9F66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896CEF-86A6-49F0-BED2-0DCB46B6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D43806-A28E-4E43-B78F-F408F74F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D4E482-FB90-44CE-8B5B-D8D6101C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9DE5D7-46A8-4265-BE17-1E35F1A9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E3108D-7ACF-43FE-862D-605033E1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911586-3964-4313-AD44-3632D7D1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12289A-270A-4F26-869F-B7A6BF96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712698-5A30-4616-89DD-B3CB88AB9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4215-AA9D-4A8D-BEBC-381019808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E228B3-170C-41ED-8D77-30EA60B67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4B75C5-78CF-4897-9790-3178085F2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B52DE4-9699-4742-8B39-77E1D230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A808C9-1878-4147-A383-3756D3CC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E4208B-2BD8-419E-9345-81BEEB98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737B4A-A824-495D-8547-E25EF81A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2AE7E2-10E4-4571-847E-E7B80AA3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87A7CA-F939-4CDC-86EF-441AC08C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0F779F-945F-44C0-BC8C-76C88576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64FFED-B0B0-4A43-A702-EBA7BF4B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B1E33-5380-405B-8A65-D56C7DA49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54A3D4-2772-47E6-9DF3-26FF114D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8BA64A-1A4C-46A9-9781-45BB6FAD7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F11650-CCF8-4D72-9FB6-6B1098A17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9539E-155C-4339-8C75-9DDEF64B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6AB37-10E3-4C00-BF99-16A5CBC6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2888B-9DD7-4662-A645-8D4C2A81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A715D-E4E4-45B0-9782-6F8D984F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974A-B1B7-4CF0-BE0A-856B649A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FB5EC-3919-45DE-A5DA-AD87E329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A8CB8-3E2F-4FC5-BCE7-8450EA96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229F4-9622-4FB9-95E6-2FA380F6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C1CA9-F474-4592-8F24-3F3E379D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D1FDA-3B46-487E-AB63-3C4F2B56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9027F-D942-4F5A-B857-BDEEE5AAF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A7EDC-BD9B-4894-A909-8C172B9CE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C9417-0583-4401-90E6-0386428AE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BA63D-5F67-4D38-BB0E-9C58B503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D70C5-4FFB-4211-A474-FE6F5480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B672-B60A-4715-AA60-22170279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B450E-1DA0-4303-9C96-34332681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74F29-9CB9-4071-AB5E-B5BB5489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EA177-0047-42D5-87EE-B4831228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EB251-5728-4878-B56E-FFD92DE2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83616-0827-4E41-8F51-00938B29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599A8-1D75-451C-8DAD-3EF7D039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851DA-C292-4925-A626-14D305A3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12A00-C789-4122-9405-375BA4D18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AAEAE-3BB9-4B2F-AC1A-7047D2BB7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F9248-8558-4D6A-BD8C-EB9988EE6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D723-3734-4DA4-B7BA-6CE9D4A3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1B1F4-AA0E-48E4-945C-E75AE6D7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F4AE6-FE86-48F6-BF3B-73793C2C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2F787-73A8-43A2-8A86-59F759D8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2DBE1-E428-4B46-A8BB-D7E92134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FEE2B-BDAA-4326-8D11-9D0B4352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2EAD3-7C3F-4838-B278-845E2120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4CA43-740F-4341-8E87-7D8CC5B9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BC2D3-ADE6-4C24-BF15-BDA8E6CD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EF7B1-7D5B-42EA-9345-DE46B85C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E1E8C-C72F-4552-AD18-7F7828778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941D-DE8B-417D-B1C2-BF7D9AE1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9A215-6578-4A78-BD66-42C1EDC34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829EC-E93F-43E3-9C35-0643F19EC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99501-1A55-45E7-A011-53E7E7DA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87462-4A58-4C31-A32B-AB5600C6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58638-A078-4AD2-A22B-FBC71720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8E127-4870-4CCA-B1E5-39D64E3C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6C30B-ACA8-4B27-B0AA-8D0702D5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6E731-B2B7-4FC3-8935-7C8D8B89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849A9-A57F-4D02-9577-4F3BAD83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A2808-1D38-4728-B1E7-F83DC353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ADA5-173B-4E95-9C75-35E2B5CB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CB3C0-0DBA-48E1-AECB-8E01C99E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08A3A-29D6-4833-A2D2-865E94A2D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A31CA-3D9D-4774-A08A-654B163F2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6059D-8E02-41C1-AFEA-BE3D10945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E721B-4D3A-4054-BD4D-4C6B8F97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52B2F-006F-45E3-BA74-33F7A161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87949-3869-413A-B1A8-C94C5F31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6F455-E664-4249-A053-C2EF7A91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E491E-E821-4516-8F34-6A368D50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94860-CEC0-48E9-9F8A-F3FAE696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5682-42F0-451B-8817-AB58E877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8F14C-49B3-4E13-B836-B5A20EF3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19C7E-BBEF-40E4-A958-E3D6313B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917B8-5236-4526-9E70-1753C8F0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7FCB9-33A0-43C3-B702-C5D2C2A62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E62E3-12FB-4897-A875-730B09BCF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BF1D9-C805-4321-91DD-744FFC1B2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1A6F5-6A61-4032-92C4-4DBAB375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B0843-2970-4658-8EE6-7649F3B8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D92D4-773C-4951-990E-9FDA92D1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DC082-1266-4653-9635-B7EE198D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6DA2-F30B-4849-A09B-D99A0897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CB083-2732-45FE-A35D-D2465321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BB8BE-43EA-481E-B277-B8543244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F0A88-9C70-4D93-90EE-1108A380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BE45B-ADC8-47BF-903F-1B2194D2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31EF9-4217-4CA2-8AB8-4C3B4EF2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933BB-3F39-4A29-BEF0-92D168CD9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840E4-2F53-4237-BD93-89389F2CC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9D2F22-4F07-402C-BE53-BB25FC54F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08718-009E-4D84-B63E-B070551C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A04992-01AA-4D76-B642-6155EF83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8F17-29A6-4A36-B18A-96A112B96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9FFAF-37AC-4CFC-A82D-0C74425717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A04B-0703-42F7-9616-34FECD456F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55F4-6C6A-4A83-B3A1-D795DFD131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B77D-8CCC-4EF1-8620-37ECDCE3AD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5204-F6B5-4EF9-86D7-7EA914E64B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9FD4-E130-4789-88C9-AEEB6635C8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62E4-E8DD-41EE-9B23-29C177F73C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DAE7-F1D0-442D-8346-55AC33E37B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5DB4-A620-485B-9FE1-3B7617A55F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85FA-7894-4781-B82D-FB674A79E9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0A41-0980-4291-807B-3854D7606E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FC9B-5721-4888-8D05-D59259BD20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9E7E-3DAA-46E4-A6BF-BEE2ACA8FB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25B7-D124-4AFC-A85F-EA4BD883FC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ADDE-DA0F-4E08-AB11-96E54FED9F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8779-9048-477F-81A7-530D389AD4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4F61-1B97-4CD7-B37B-26EFDECDCB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0C50-CCA5-4C91-8A08-9BE4425713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8479-FA03-40FB-AEFF-779B585DE1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E157-AACC-4D40-A696-52CA537F0F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1EE6-1099-404A-A9C3-05A60666AD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EEEE-FD4F-43A3-84A6-E7B50B4A2C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C378-C767-4A28-8A87-D3186BCF44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5127-77F1-4FC7-960B-05D98BC264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6206-BF38-4A69-ADCF-55537840DF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9E49-7978-4A51-B2D1-96955186F9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143B-F664-44BF-AD62-3CE82A8F7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1149-DF39-4D28-9BB6-E3CB4413A7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FA8B-5183-4CB0-96C6-B9FC529B99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FCDB-302E-41C0-BD8F-948F032519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97F0-F720-4A17-9784-DAFE126E68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0E72-0293-4134-95D3-A14C04FEC1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CC00-2D23-4310-A6B7-DD50788750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A88C-FBFA-4DC8-BD8D-6FBE024011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B07D-FF06-4F13-9EA5-AA24E78826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954D-BDEF-4FEE-93D4-7511AD8531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A0EF-3B91-4FC7-80FD-2EBB14129A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895E-D558-410A-8EBC-36B0940E3F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CB45-B43A-449A-8DF3-59EDDB2C91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71280" y="2595600"/>
            <a:ext cx="899964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00" name="图片 1" descr=""/>
          <p:cNvPicPr/>
          <p:nvPr/>
        </p:nvPicPr>
        <p:blipFill>
          <a:blip r:embed="rId1"/>
          <a:stretch/>
        </p:blipFill>
        <p:spPr>
          <a:xfrm>
            <a:off x="100080" y="1333440"/>
            <a:ext cx="8942400" cy="419112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1" descr=""/>
          <p:cNvPicPr/>
          <p:nvPr/>
        </p:nvPicPr>
        <p:blipFill>
          <a:blip r:embed="rId2"/>
          <a:stretch/>
        </p:blipFill>
        <p:spPr>
          <a:xfrm>
            <a:off x="755640" y="3789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1" descr=""/>
          <p:cNvPicPr/>
          <p:nvPr/>
        </p:nvPicPr>
        <p:blipFill>
          <a:blip r:embed="rId3"/>
          <a:stretch/>
        </p:blipFill>
        <p:spPr>
          <a:xfrm>
            <a:off x="684360" y="473868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05" name="图片 1" descr=""/>
          <p:cNvPicPr/>
          <p:nvPr/>
        </p:nvPicPr>
        <p:blipFill>
          <a:blip r:embed="rId1"/>
          <a:stretch/>
        </p:blipFill>
        <p:spPr>
          <a:xfrm>
            <a:off x="519120" y="2004840"/>
            <a:ext cx="8104320" cy="284832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1" descr=""/>
          <p:cNvPicPr/>
          <p:nvPr/>
        </p:nvPicPr>
        <p:blipFill>
          <a:blip r:embed="rId2"/>
          <a:stretch/>
        </p:blipFill>
        <p:spPr>
          <a:xfrm>
            <a:off x="770040" y="2060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1" descr=""/>
          <p:cNvPicPr/>
          <p:nvPr/>
        </p:nvPicPr>
        <p:blipFill>
          <a:blip r:embed="rId3"/>
          <a:stretch/>
        </p:blipFill>
        <p:spPr>
          <a:xfrm>
            <a:off x="826920" y="2952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" descr=""/>
          <p:cNvPicPr/>
          <p:nvPr/>
        </p:nvPicPr>
        <p:blipFill>
          <a:blip r:embed="rId4"/>
          <a:stretch/>
        </p:blipFill>
        <p:spPr>
          <a:xfrm>
            <a:off x="826920" y="393372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9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3400560" y="1149480"/>
            <a:ext cx="2342880" cy="40932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2" descr=""/>
          <p:cNvPicPr/>
          <p:nvPr/>
        </p:nvPicPr>
        <p:blipFill>
          <a:blip r:embed="rId3"/>
          <a:stretch/>
        </p:blipFill>
        <p:spPr>
          <a:xfrm>
            <a:off x="404640" y="2185920"/>
            <a:ext cx="8332920" cy="24861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1101600" y="2637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1116000" y="30830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1116000" y="3500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1116000" y="3933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8"/>
          <a:stretch/>
        </p:blipFill>
        <p:spPr>
          <a:xfrm>
            <a:off x="1116000" y="4307040"/>
            <a:ext cx="360360" cy="3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7" name="图片 1" descr=""/>
          <p:cNvPicPr/>
          <p:nvPr/>
        </p:nvPicPr>
        <p:blipFill>
          <a:blip r:embed="rId1"/>
          <a:stretch/>
        </p:blipFill>
        <p:spPr>
          <a:xfrm>
            <a:off x="971640" y="1166760"/>
            <a:ext cx="7200720" cy="45244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2"/>
          <a:stretch/>
        </p:blipFill>
        <p:spPr>
          <a:xfrm>
            <a:off x="1617840" y="1628640"/>
            <a:ext cx="361800" cy="3207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3"/>
          <a:stretch/>
        </p:blipFill>
        <p:spPr>
          <a:xfrm>
            <a:off x="1663560" y="2435400"/>
            <a:ext cx="362160" cy="32040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4"/>
          <a:stretch/>
        </p:blipFill>
        <p:spPr>
          <a:xfrm>
            <a:off x="1619280" y="3284640"/>
            <a:ext cx="361800" cy="32040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5"/>
          <a:stretch/>
        </p:blipFill>
        <p:spPr>
          <a:xfrm>
            <a:off x="1619280" y="4119480"/>
            <a:ext cx="361800" cy="3207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6"/>
          <a:stretch/>
        </p:blipFill>
        <p:spPr>
          <a:xfrm>
            <a:off x="1692360" y="4956120"/>
            <a:ext cx="36180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5" name="图片 1" descr=""/>
          <p:cNvPicPr/>
          <p:nvPr/>
        </p:nvPicPr>
        <p:blipFill>
          <a:blip r:embed="rId1"/>
          <a:stretch/>
        </p:blipFill>
        <p:spPr>
          <a:xfrm>
            <a:off x="1695600" y="996840"/>
            <a:ext cx="5752800" cy="53038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2"/>
          <a:stretch/>
        </p:blipFill>
        <p:spPr>
          <a:xfrm>
            <a:off x="2340000" y="1512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3"/>
          <a:stretch/>
        </p:blipFill>
        <p:spPr>
          <a:xfrm>
            <a:off x="2340000" y="2492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4"/>
          <a:stretch/>
        </p:blipFill>
        <p:spPr>
          <a:xfrm>
            <a:off x="2340000" y="3500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5"/>
          <a:stretch/>
        </p:blipFill>
        <p:spPr>
          <a:xfrm>
            <a:off x="2340000" y="4437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6"/>
          <a:stretch/>
        </p:blipFill>
        <p:spPr>
          <a:xfrm>
            <a:off x="2340000" y="537372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285840" y="1566720"/>
            <a:ext cx="8572320" cy="372456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2"/>
          <a:stretch/>
        </p:blipFill>
        <p:spPr>
          <a:xfrm>
            <a:off x="971640" y="29973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3"/>
          <a:stretch/>
        </p:blipFill>
        <p:spPr>
          <a:xfrm>
            <a:off x="971640" y="3429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4"/>
          <a:stretch/>
        </p:blipFill>
        <p:spPr>
          <a:xfrm>
            <a:off x="971640" y="3933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5"/>
          <a:stretch/>
        </p:blipFill>
        <p:spPr>
          <a:xfrm>
            <a:off x="971640" y="4437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6"/>
          <a:stretch/>
        </p:blipFill>
        <p:spPr>
          <a:xfrm>
            <a:off x="985680" y="492768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1" name="图片 1" descr=""/>
          <p:cNvPicPr/>
          <p:nvPr/>
        </p:nvPicPr>
        <p:blipFill>
          <a:blip r:embed="rId1"/>
          <a:stretch/>
        </p:blipFill>
        <p:spPr>
          <a:xfrm>
            <a:off x="235080" y="852480"/>
            <a:ext cx="8675640" cy="2419200"/>
          </a:xfrm>
          <a:prstGeom prst="rect">
            <a:avLst/>
          </a:prstGeom>
          <a:ln w="0">
            <a:noFill/>
          </a:ln>
        </p:spPr>
      </p:pic>
      <p:pic>
        <p:nvPicPr>
          <p:cNvPr id="1062" name="图片 2" descr=""/>
          <p:cNvPicPr/>
          <p:nvPr/>
        </p:nvPicPr>
        <p:blipFill>
          <a:blip r:embed="rId2"/>
          <a:stretch/>
        </p:blipFill>
        <p:spPr>
          <a:xfrm>
            <a:off x="353880" y="3684600"/>
            <a:ext cx="7799400" cy="28558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3"/>
          <a:stretch/>
        </p:blipFill>
        <p:spPr>
          <a:xfrm>
            <a:off x="900000" y="14558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4"/>
          <a:stretch/>
        </p:blipFill>
        <p:spPr>
          <a:xfrm>
            <a:off x="5364000" y="1484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5"/>
          <a:stretch/>
        </p:blipFill>
        <p:spPr>
          <a:xfrm>
            <a:off x="900000" y="21477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6"/>
          <a:stretch/>
        </p:blipFill>
        <p:spPr>
          <a:xfrm>
            <a:off x="5364000" y="21337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7"/>
          <a:stretch/>
        </p:blipFill>
        <p:spPr>
          <a:xfrm>
            <a:off x="900000" y="2852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8"/>
          <a:stretch/>
        </p:blipFill>
        <p:spPr>
          <a:xfrm>
            <a:off x="1014480" y="41781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9"/>
          <a:stretch/>
        </p:blipFill>
        <p:spPr>
          <a:xfrm>
            <a:off x="971640" y="46674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10"/>
          <a:stretch/>
        </p:blipFill>
        <p:spPr>
          <a:xfrm>
            <a:off x="971640" y="5157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11"/>
          <a:stretch/>
        </p:blipFill>
        <p:spPr>
          <a:xfrm>
            <a:off x="971640" y="5661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12"/>
          <a:stretch/>
        </p:blipFill>
        <p:spPr>
          <a:xfrm>
            <a:off x="971640" y="612144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5" name="图片 1" descr=""/>
          <p:cNvPicPr/>
          <p:nvPr/>
        </p:nvPicPr>
        <p:blipFill>
          <a:blip r:embed="rId1"/>
          <a:stretch/>
        </p:blipFill>
        <p:spPr>
          <a:xfrm>
            <a:off x="162000" y="263520"/>
            <a:ext cx="8820000" cy="647712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2"/>
          <a:stretch/>
        </p:blipFill>
        <p:spPr>
          <a:xfrm>
            <a:off x="5292720" y="2060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3"/>
          <a:stretch/>
        </p:blipFill>
        <p:spPr>
          <a:xfrm>
            <a:off x="2916360" y="33577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4"/>
          <a:stretch/>
        </p:blipFill>
        <p:spPr>
          <a:xfrm>
            <a:off x="2700360" y="46814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5"/>
          <a:stretch/>
        </p:blipFill>
        <p:spPr>
          <a:xfrm>
            <a:off x="3995640" y="46674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6"/>
          <a:stretch/>
        </p:blipFill>
        <p:spPr>
          <a:xfrm>
            <a:off x="3635280" y="597852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3" name="图片 1" descr=""/>
          <p:cNvPicPr/>
          <p:nvPr/>
        </p:nvPicPr>
        <p:blipFill>
          <a:blip r:embed="rId1"/>
          <a:stretch/>
        </p:blipFill>
        <p:spPr>
          <a:xfrm>
            <a:off x="271440" y="801720"/>
            <a:ext cx="7894800" cy="3741840"/>
          </a:xfrm>
          <a:prstGeom prst="rect">
            <a:avLst/>
          </a:prstGeom>
          <a:ln w="0">
            <a:noFill/>
          </a:ln>
        </p:spPr>
      </p:pic>
      <p:pic>
        <p:nvPicPr>
          <p:cNvPr id="1084" name="图片 2" descr=""/>
          <p:cNvPicPr/>
          <p:nvPr/>
        </p:nvPicPr>
        <p:blipFill>
          <a:blip r:embed="rId2"/>
          <a:stretch/>
        </p:blipFill>
        <p:spPr>
          <a:xfrm>
            <a:off x="804960" y="4741920"/>
            <a:ext cx="7704000" cy="183816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1" descr=""/>
          <p:cNvPicPr/>
          <p:nvPr/>
        </p:nvPicPr>
        <p:blipFill>
          <a:blip r:embed="rId3"/>
          <a:stretch/>
        </p:blipFill>
        <p:spPr>
          <a:xfrm>
            <a:off x="900000" y="1341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1" descr=""/>
          <p:cNvPicPr/>
          <p:nvPr/>
        </p:nvPicPr>
        <p:blipFill>
          <a:blip r:embed="rId4"/>
          <a:stretch/>
        </p:blipFill>
        <p:spPr>
          <a:xfrm>
            <a:off x="942840" y="22766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" descr=""/>
          <p:cNvPicPr/>
          <p:nvPr/>
        </p:nvPicPr>
        <p:blipFill>
          <a:blip r:embed="rId5"/>
          <a:stretch/>
        </p:blipFill>
        <p:spPr>
          <a:xfrm>
            <a:off x="900000" y="32846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" descr=""/>
          <p:cNvPicPr/>
          <p:nvPr/>
        </p:nvPicPr>
        <p:blipFill>
          <a:blip r:embed="rId6"/>
          <a:stretch/>
        </p:blipFill>
        <p:spPr>
          <a:xfrm>
            <a:off x="1042920" y="4797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1" descr=""/>
          <p:cNvPicPr/>
          <p:nvPr/>
        </p:nvPicPr>
        <p:blipFill>
          <a:blip r:embed="rId7"/>
          <a:stretch/>
        </p:blipFill>
        <p:spPr>
          <a:xfrm>
            <a:off x="1042920" y="577692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92" name="图片 1" descr=""/>
          <p:cNvPicPr/>
          <p:nvPr/>
        </p:nvPicPr>
        <p:blipFill>
          <a:blip r:embed="rId1"/>
          <a:stretch/>
        </p:blipFill>
        <p:spPr>
          <a:xfrm>
            <a:off x="609480" y="2014560"/>
            <a:ext cx="7925040" cy="282888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1" descr=""/>
          <p:cNvPicPr/>
          <p:nvPr/>
        </p:nvPicPr>
        <p:blipFill>
          <a:blip r:embed="rId2"/>
          <a:stretch/>
        </p:blipFill>
        <p:spPr>
          <a:xfrm>
            <a:off x="1258920" y="2492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1" descr=""/>
          <p:cNvPicPr/>
          <p:nvPr/>
        </p:nvPicPr>
        <p:blipFill>
          <a:blip r:embed="rId3"/>
          <a:stretch/>
        </p:blipFill>
        <p:spPr>
          <a:xfrm>
            <a:off x="1258920" y="29671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1" descr=""/>
          <p:cNvPicPr/>
          <p:nvPr/>
        </p:nvPicPr>
        <p:blipFill>
          <a:blip r:embed="rId4"/>
          <a:stretch/>
        </p:blipFill>
        <p:spPr>
          <a:xfrm>
            <a:off x="1258920" y="3500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1" descr=""/>
          <p:cNvPicPr/>
          <p:nvPr/>
        </p:nvPicPr>
        <p:blipFill>
          <a:blip r:embed="rId5"/>
          <a:stretch/>
        </p:blipFill>
        <p:spPr>
          <a:xfrm>
            <a:off x="1258920" y="3933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1" descr=""/>
          <p:cNvPicPr/>
          <p:nvPr/>
        </p:nvPicPr>
        <p:blipFill>
          <a:blip r:embed="rId6"/>
          <a:stretch/>
        </p:blipFill>
        <p:spPr>
          <a:xfrm>
            <a:off x="1258920" y="443700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33:27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